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180-99A8-4A43-9E49-1F254F16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041-7E5E-4098-9E3B-05291E3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7B4-9AD4-40B0-BD07-A28505B4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D4E-51F8-47E6-A236-2384BFD3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E4F-19B5-487F-A7DC-65EED98F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119-4DEA-42D6-B151-D12B4FEA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7B6-863D-4D95-A75E-83A4EAA8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3AA-06DE-40D4-9CF6-F206F875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2BE-5F48-4626-B0DF-65A75AF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27D-69ED-4AE7-9086-D0AD6D0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9DB-31BB-4F82-83F1-F7F4077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F65A-FEE3-4461-929C-163A036D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FA40-3B8B-4D2B-A60E-2DF8AA644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ku.edu.cn/on_line/w3html/Shen/ref/shen.html" TargetMode="External"/><Relationship Id="rId2" Type="http://schemas.openxmlformats.org/officeDocument/2006/relationships/hyperlink" Target="http://www.microsoft.com/" TargetMode="External"/><Relationship Id="rId3" Type="http://schemas.openxmlformats.org/officeDocument/2006/relationships/hyperlink" Target="http://www.microsoft.com/" TargetMode="External"/><Relationship Id="rId4" Type="http://schemas.openxmlformats.org/officeDocument/2006/relationships/hyperlink" Target="http://www.eit.com/creations/s-http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8305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Protokoły bezpiecznego WWW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heen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CER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Private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mmunication Technology - PC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Microsof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-HTTP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EIT i RS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AU" sz="2400" spc="-1" strike="noStrike" u="sng">
                <a:solidFill>
                  <a:srgbClr val="0000ff"/>
                </a:solidFill>
                <a:uFillTx/>
                <a:latin typeface="Times New Roman"/>
              </a:rPr>
              <a:t>SS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 Netscap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685800"/>
            <a:ext cx="83059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Rodzaje bezpiecznych protokoł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tokoły warstwy transportowej (SSL, P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otokoly warstwy aplikacyjnej (Shen, S-H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erwsze z nich działają tuż nad warstwą TCP/IP i mogą służyć do przenoszenia różnych protokołów wyższych warstw --- FTP, POP3, SMTP oraz 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685800"/>
            <a:ext cx="8305920" cy="66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 to jest SS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ure Socket Lay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protokół bezpiecznej komunikacji między klientem a serwerem, stworzony przez Net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4 Pierwsze definicje Netscape’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5 (poczatek) publikacja wersji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5 (koniec) publikacja wersji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6 implementacja wersji 3.0 w produktach Netscape’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stawowym celem protokołu SSL jest zapewnienie prywatności i wiarygodności pomiędzy dwoma aplikacjami komunikującymi się między sob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8305920" cy="32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Co to jest SS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ent i serwer mogą zestawić bezpieczne połączenie w internecie w celu ochrony danych wysyłanych i odbieranych. Użykownik może być prawie pewien że informacje które wysyła są poufne, autentyczne i orginalne podczas połączenia używającego SS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17634"/>
          <a:stretch/>
        </p:blipFill>
        <p:spPr>
          <a:xfrm>
            <a:off x="2362320" y="312408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685800"/>
            <a:ext cx="8686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S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L zapewnia trzy rzecz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ywatność --- połączenie jest szyfrow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ryzację --- klient i serwer określa swoją tożsamoś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lność przesyłanych danych --- przez sumy kontrol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44831" b="0"/>
          <a:stretch/>
        </p:blipFill>
        <p:spPr>
          <a:xfrm>
            <a:off x="609480" y="1371600"/>
            <a:ext cx="3353040" cy="230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62520" y="2209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286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stwa sie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1676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stwa aplikac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85800"/>
            <a:ext cx="868680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S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L - zawiera dwa podprotokoł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SL Record protocol 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powiedzialny za zdefiniowanie formatu w jakim będą przesyłane d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SL Handshaking protoco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dpowiedzialny za przesyłanie informacji podczas pierwszego połączenia z serwerem w celu np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entyfikacji, ustalenia algorytmu szyfrującego, nawiązanie połączenia SS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5800"/>
            <a:ext cx="8686800" cy="59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S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odczas autentyfikacji,wymiany certyfikatów,wymiany kluczy protkół SSL pozwala na używanie algorytmów szyfrujacych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ą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Encryption Standar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S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gital Signature Algorith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 Exchange Algorith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D5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Dige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C2 and RC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S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vest, Shamir, and Adleman. :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SA key exchan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-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cure Hash Algorith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IPJ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685800"/>
            <a:ext cx="8686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S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 względu na sposób dokonywania autoryzacji SSL jest protokołe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entralizowany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Jest on oparty o grupę instytucji certyfikujących --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ertyfing Author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 skróci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L przewiduje użycie trzech rodzaje certyfikató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tyfikat 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biór informacji reprezentujących tożsamość danej instytucji certyfikujące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tyfikat serwer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Zbiór informacji reprezentujących tożsamość danego serwera. Certyfikat serwera musi być opatrzony podpisem 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tyfikat osobis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Wraz z podpisem odpowiedniego CA pozwala potwierdzić Twoją tożsamość jako klien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tyfikat atrybut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Sam w sobie nie stanowi dowodu tożsamości. Używany np. do : przyznawanie tymczasowych praw podpisywania certyfika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zpoczęcie sesji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447920"/>
            <a:ext cx="152388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1447920"/>
            <a:ext cx="1523880" cy="3962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16002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742840" y="2286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971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160" y="3733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19520" y="449568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1814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12193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zpoczęcie 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905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yfik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590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zyfrowany klu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352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tanowienie sesji, rządanie certyfika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1148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yfikat i inne 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48006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e zaszyfrowane ustalonym klucz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6T12:28:28Z</dcterms:created>
  <dc:creator>MARCIN</dc:creator>
  <dc:description/>
  <dc:language>en-US</dc:language>
  <cp:lastModifiedBy>MARCIN</cp:lastModifiedBy>
  <cp:lastPrinted>2000-11-26T16:23:10Z</cp:lastPrinted>
  <dcterms:modified xsi:type="dcterms:W3CDTF">2000-11-26T16:23:34Z</dcterms:modified>
  <cp:revision>2</cp:revision>
  <dc:subject/>
  <dc:title>No Slide Title</dc:title>
</cp:coreProperties>
</file>